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D8BE-03DC-401F-ACF9-E9327B34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2CCE-110F-4E5D-B529-B7BF807C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3065-60A8-47E4-A31E-C0D3CAC7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9DEB-448C-4E47-8475-17C7C056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4A9F-0B3A-4805-810F-68E55FDC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394A-8BA0-49AC-A6A1-5EC956BF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DC67-26D7-4CE6-AB90-5AD11979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813D-8B87-43EA-B315-36BBB052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01FC-35EC-42B3-BDC0-30EE9127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DA2B-6EBB-40E2-9DFF-84594637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4BFC-2CD3-42F7-9F79-8D5B386A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3B87-DE72-4E14-9CEE-46D2FE2C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3A05-F8C5-481B-82A4-D50AF063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B5DC-CBF1-4ABB-AEA0-A0AF4ED4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008D-5233-4DF5-93BF-BB010AA5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28BA-F154-4025-8A35-970BC978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6E8A-895E-4FCB-8765-051C96B8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150-66C0-4B3F-9C58-AC73992F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167-D211-4A6C-93A0-55460E39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B289-ECE2-4AAB-A5BD-8D2B8B8E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1A98-96B1-49A3-A612-4B5A8308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8AD5-521A-4317-AE97-F83C191D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9D64-E78E-4CC5-837A-34D9C22B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3E95-F23E-4883-A10C-7ED92241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C273-94D0-4DA9-890B-29DE763C87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BB8E-5A9B-4840-92A8-C58DC1BD55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blem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720" y="24379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can they gain enough money for the renovation of their kitch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are from India and they lack resourc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1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Century Skill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 Identification, Formulation, and Solu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f-Dir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need to provide a program for them to be able to monitor their expen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21:17:58Z</dcterms:created>
  <dc:creator>madrid</dc:creator>
  <dc:description/>
  <dc:language>en-US</dc:language>
  <cp:lastModifiedBy>Student</cp:lastModifiedBy>
  <dcterms:modified xsi:type="dcterms:W3CDTF">2012-07-19T02:36:29Z</dcterms:modified>
  <cp:revision>2</cp:revision>
  <dc:subject/>
  <dc:title>Problem: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